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FB3-7EE3-4DA1-9CFE-2E057000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CF7-81EA-4407-B395-E90AA527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BAB-0418-4A99-93EE-37ABD113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740-2703-4D18-B3A4-3DF64B61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189-6299-4703-80BC-BEFFE491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C14F-8C5C-4A96-A394-01EB657D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CAF-7776-4032-8598-8B6D813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5F19-5E99-4C20-9941-09B1E98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B1BC-5B22-453A-9406-8699C02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0609-F4B5-4EC2-BC34-72C31436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6CE1-4C73-4089-A1ED-C7E912D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22E-56B9-4398-8389-BA1C637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1FA-770E-41B3-B2F3-4F51A69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2611-0F4F-46B6-BDD1-C5354991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BEA-B8FC-4499-9B1A-53C0A83E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2EBE-70A7-4543-AC9F-BDA8BD35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A9AC-EA5F-41AD-8173-8A6B6548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511-DB16-481B-B5B8-043639D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392-A43D-4048-8D0F-4A5CBC0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D84-6605-4320-BC32-EA7E5697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7C1-265A-4B62-8391-4A7C03F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2D6-3847-4B84-BC64-B3E4AB7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A23-807D-4F48-9CB5-152C9A45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F0A-3C9A-45ED-B389-9EA7A7E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AF6-B659-4E53-9FA5-22576B3F64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0EBC-7B5C-42F8-BAFB-3B12308B2A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xt-Generation Web Desig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17884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ovew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1905120"/>
            <a:ext cx="609480" cy="7617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42900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42900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42900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182240" y="2771640"/>
            <a:ext cx="3048120" cy="45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08800" y="4284720"/>
            <a:ext cx="529920" cy="82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14640" y="2755800"/>
            <a:ext cx="1481040" cy="47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759040"/>
            <a:ext cx="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99080" y="2774880"/>
            <a:ext cx="157320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94200" y="4322880"/>
            <a:ext cx="5299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11880" y="4308480"/>
            <a:ext cx="181080" cy="68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6080" y="4243320"/>
            <a:ext cx="960480" cy="78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08040" y="4292640"/>
            <a:ext cx="130968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327560"/>
            <a:ext cx="936720" cy="68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85600" y="4344840"/>
            <a:ext cx="19836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46240" y="4346640"/>
            <a:ext cx="44604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6" idx="1"/>
            <a:endCxn id="126" idx="1"/>
          </p:cNvCxnSpPr>
          <p:nvPr/>
        </p:nvCxnSpPr>
        <p:spPr>
          <a:xfrm flipH="1" rot="10800000">
            <a:off x="837720" y="2285280"/>
            <a:ext cx="3353760" cy="1524600"/>
          </a:xfrm>
          <a:prstGeom prst="curvedConnector5">
            <a:avLst>
              <a:gd name="adj1" fmla="val -6816"/>
              <a:gd name="adj2" fmla="val 50000"/>
              <a:gd name="adj3" fmla="val -6816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0" name=""/>
          <p:cNvCxnSpPr>
            <a:stCxn id="129" idx="3"/>
            <a:endCxn id="126" idx="3"/>
          </p:cNvCxnSpPr>
          <p:nvPr/>
        </p:nvCxnSpPr>
        <p:spPr>
          <a:xfrm flipH="1" flipV="1">
            <a:off x="4800240" y="2285280"/>
            <a:ext cx="1753200" cy="1524600"/>
          </a:xfrm>
          <a:prstGeom prst="curvedConnector5">
            <a:avLst>
              <a:gd name="adj1" fmla="val -13021"/>
              <a:gd name="adj2" fmla="val 50000"/>
              <a:gd name="adj3" fmla="val -13021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1" name=""/>
          <p:cNvCxnSpPr>
            <a:stCxn id="135" idx="3"/>
            <a:endCxn id="126" idx="3"/>
          </p:cNvCxnSpPr>
          <p:nvPr/>
        </p:nvCxnSpPr>
        <p:spPr>
          <a:xfrm flipH="1" flipV="1">
            <a:off x="4799880" y="2285640"/>
            <a:ext cx="2972520" cy="3201120"/>
          </a:xfrm>
          <a:prstGeom prst="curvedConnector5">
            <a:avLst>
              <a:gd name="adj1" fmla="val -7691"/>
              <a:gd name="adj2" fmla="val 49994"/>
              <a:gd name="adj3" fmla="val -7691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2" name=""/>
          <p:cNvCxnSpPr>
            <a:stCxn id="135" idx="3"/>
            <a:endCxn id="129" idx="3"/>
          </p:cNvCxnSpPr>
          <p:nvPr/>
        </p:nvCxnSpPr>
        <p:spPr>
          <a:xfrm flipH="1" flipV="1">
            <a:off x="6552360" y="3809160"/>
            <a:ext cx="1220040" cy="1677240"/>
          </a:xfrm>
          <a:prstGeom prst="curvedConnector5">
            <a:avLst>
              <a:gd name="adj1" fmla="val -15879"/>
              <a:gd name="adj2" fmla="val 50000"/>
              <a:gd name="adj3" fmla="val -15879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me examp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(examp2, examp2a, exam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extr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avigational to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t distinguish location, place within the coll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refu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hierarchy according to desir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:  Desig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ll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inguishing desig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different places in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v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s generated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ynamic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from a document data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ent, based on user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utomatically upd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new content is ad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inciple, allows for content structured using complex database que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Structure: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ophisticated backend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tructurally marked-up data (SGML,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programming to generate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esign for navigation, ind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06440" y="228600"/>
            <a:ext cx="835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Theore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ing Hyp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2276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oals/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templates,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iv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Site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i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functions/services to provi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udiences do I want to ser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ve two items are intimate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 or multiple si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s (or site areas) devoted to audience abilities and/or inter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 -- Who are the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neral public/casual visi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avigation (unfamiliar with site stru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-to-find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resources “on top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use tools (search tools, navigation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 -- Who are the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ea/Technical exper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ly richer design (more expert us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resource “on top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tools (deeper understanding of how they 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ssible comprom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ol with link to complex one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 -- What Want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audiences have very different interests. For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spective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rse/program information; funding; visa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events; course info; exam schedules; library resource access; pub ho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ore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ing Hyper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oals/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e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ive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e Desig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tes f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ud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when content is mutually exclusive -- use a tree for the different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124160" y="3693960"/>
            <a:ext cx="609840" cy="76212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0280" y="521820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4160" y="5218200"/>
            <a:ext cx="60984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7000" y="521820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48040" y="4545000"/>
            <a:ext cx="1481040" cy="47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9080" y="4548240"/>
            <a:ext cx="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32480" y="4564080"/>
            <a:ext cx="157320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7" idx="3"/>
            <a:endCxn id="174" idx="3"/>
          </p:cNvCxnSpPr>
          <p:nvPr/>
        </p:nvCxnSpPr>
        <p:spPr>
          <a:xfrm flipH="1" flipV="1">
            <a:off x="4733640" y="4074480"/>
            <a:ext cx="1753200" cy="1524600"/>
          </a:xfrm>
          <a:prstGeom prst="curvedConnector5">
            <a:avLst>
              <a:gd name="adj1" fmla="val -13021"/>
              <a:gd name="adj2" fmla="val 50000"/>
              <a:gd name="adj3" fmla="val -13021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634840" y="5372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6120" y="53751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4200" y="53751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2" idx="1"/>
            <a:endCxn id="174" idx="1"/>
          </p:cNvCxnSpPr>
          <p:nvPr/>
        </p:nvCxnSpPr>
        <p:spPr>
          <a:xfrm flipH="1" rot="10800000">
            <a:off x="2633400" y="4074480"/>
            <a:ext cx="1491120" cy="1526400"/>
          </a:xfrm>
          <a:prstGeom prst="curvedConnector5">
            <a:avLst>
              <a:gd name="adj1" fmla="val -15310"/>
              <a:gd name="adj2" fmla="val 49988"/>
              <a:gd name="adj3" fmla="val -15310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6" name=""/>
          <p:cNvCxnSpPr>
            <a:stCxn id="176" idx="2"/>
            <a:endCxn id="174" idx="1"/>
          </p:cNvCxnSpPr>
          <p:nvPr/>
        </p:nvCxnSpPr>
        <p:spPr>
          <a:xfrm flipV="1" rot="16200000">
            <a:off x="3323520" y="4874400"/>
            <a:ext cx="1905480" cy="305640"/>
          </a:xfrm>
          <a:prstGeom prst="curvedConnector5">
            <a:avLst>
              <a:gd name="adj1" fmla="val -25000"/>
              <a:gd name="adj2" fmla="val 411084"/>
              <a:gd name="adj3" fmla="val -25000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ites/Audien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icult when content is sha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ree possible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ynamic co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generated according to path explored (gets all the backlinks rig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backli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resenting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p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ame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-Tailored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me Exampl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y Yaho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edit.my.yahoo.com/config/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ersonal Lyc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(examp6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personal.lycos.com/default.asp?startpage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maintai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ser pro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stores user information, inter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oftware to track inter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evant only if lots of “flat”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: -- A Web site that is a gateway into a large collec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ization i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a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 topics,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designed for specific “special interes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designed to be compreh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for user to “forget” account ID, settings, indeed just about everything about their “personal setting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: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ust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wor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features often do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balance design with function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hoo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equired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hoo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kills, equipment,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to download, speed to 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atic Technolo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ust about ever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/Active-X  (slow to download, often problematic on slow machi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 Video (slow, poor quality, high c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 Audio (not bad, actu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 plugins (often sl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any do not support these dat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: Story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ck-up design with storybo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arge site design, links, path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ructure a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ode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possi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desig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oc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viga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peri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“hide” the other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ite, then remove “future” p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: Templ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collection of standard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ing sections, subsectio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requir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ph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sign docu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pecifying rules for pa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and-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emplate, or auto-generate cont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e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Distribute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management responsibility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ntent ow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entrally-manda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, templa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e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own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manager controls division of responsibilities, coord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rd-Generation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much different from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nd Practices for Large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issues and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tive structures and log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14800" y="2471760"/>
            <a:ext cx="3514680" cy="4119480"/>
          </a:xfrm>
          <a:custGeom>
            <a:avLst/>
            <a:gdLst/>
            <a:ahLst/>
            <a:rect l="l" t="t" r="r" b="b"/>
            <a:pathLst>
              <a:path w="2214" h="2793">
                <a:moveTo>
                  <a:pt x="190" y="906"/>
                </a:moveTo>
                <a:cubicBezTo>
                  <a:pt x="236" y="766"/>
                  <a:pt x="269" y="621"/>
                  <a:pt x="305" y="478"/>
                </a:cubicBezTo>
                <a:cubicBezTo>
                  <a:pt x="353" y="286"/>
                  <a:pt x="328" y="336"/>
                  <a:pt x="472" y="144"/>
                </a:cubicBezTo>
                <a:cubicBezTo>
                  <a:pt x="489" y="121"/>
                  <a:pt x="527" y="130"/>
                  <a:pt x="555" y="123"/>
                </a:cubicBezTo>
                <a:cubicBezTo>
                  <a:pt x="590" y="102"/>
                  <a:pt x="621" y="73"/>
                  <a:pt x="660" y="61"/>
                </a:cubicBezTo>
                <a:cubicBezTo>
                  <a:pt x="740" y="36"/>
                  <a:pt x="827" y="43"/>
                  <a:pt x="910" y="29"/>
                </a:cubicBezTo>
                <a:cubicBezTo>
                  <a:pt x="1128" y="33"/>
                  <a:pt x="1392" y="0"/>
                  <a:pt x="1619" y="61"/>
                </a:cubicBezTo>
                <a:cubicBezTo>
                  <a:pt x="1647" y="82"/>
                  <a:pt x="1672" y="108"/>
                  <a:pt x="1703" y="123"/>
                </a:cubicBezTo>
                <a:cubicBezTo>
                  <a:pt x="1729" y="136"/>
                  <a:pt x="1763" y="128"/>
                  <a:pt x="1786" y="144"/>
                </a:cubicBezTo>
                <a:cubicBezTo>
                  <a:pt x="1888" y="215"/>
                  <a:pt x="1950" y="329"/>
                  <a:pt x="2037" y="415"/>
                </a:cubicBezTo>
                <a:cubicBezTo>
                  <a:pt x="2044" y="436"/>
                  <a:pt x="2053" y="457"/>
                  <a:pt x="2058" y="478"/>
                </a:cubicBezTo>
                <a:cubicBezTo>
                  <a:pt x="2063" y="499"/>
                  <a:pt x="2058" y="522"/>
                  <a:pt x="2068" y="541"/>
                </a:cubicBezTo>
                <a:cubicBezTo>
                  <a:pt x="2084" y="572"/>
                  <a:pt x="2110" y="596"/>
                  <a:pt x="2131" y="624"/>
                </a:cubicBezTo>
                <a:cubicBezTo>
                  <a:pt x="2170" y="740"/>
                  <a:pt x="2149" y="665"/>
                  <a:pt x="2172" y="854"/>
                </a:cubicBezTo>
                <a:cubicBezTo>
                  <a:pt x="2175" y="882"/>
                  <a:pt x="2188" y="909"/>
                  <a:pt x="2193" y="937"/>
                </a:cubicBezTo>
                <a:cubicBezTo>
                  <a:pt x="2206" y="1004"/>
                  <a:pt x="2210" y="1105"/>
                  <a:pt x="2214" y="1167"/>
                </a:cubicBezTo>
                <a:cubicBezTo>
                  <a:pt x="2211" y="1417"/>
                  <a:pt x="2210" y="1668"/>
                  <a:pt x="2204" y="1918"/>
                </a:cubicBezTo>
                <a:cubicBezTo>
                  <a:pt x="2202" y="2003"/>
                  <a:pt x="2175" y="2217"/>
                  <a:pt x="2131" y="2294"/>
                </a:cubicBezTo>
                <a:cubicBezTo>
                  <a:pt x="2116" y="2320"/>
                  <a:pt x="2087" y="2334"/>
                  <a:pt x="2068" y="2356"/>
                </a:cubicBezTo>
                <a:cubicBezTo>
                  <a:pt x="2058" y="2367"/>
                  <a:pt x="1993" y="2464"/>
                  <a:pt x="1964" y="2482"/>
                </a:cubicBezTo>
                <a:cubicBezTo>
                  <a:pt x="1941" y="2496"/>
                  <a:pt x="1836" y="2519"/>
                  <a:pt x="1818" y="2523"/>
                </a:cubicBezTo>
                <a:cubicBezTo>
                  <a:pt x="1762" y="2565"/>
                  <a:pt x="1717" y="2627"/>
                  <a:pt x="1651" y="2649"/>
                </a:cubicBezTo>
                <a:cubicBezTo>
                  <a:pt x="1394" y="2735"/>
                  <a:pt x="1103" y="2734"/>
                  <a:pt x="837" y="2743"/>
                </a:cubicBezTo>
                <a:cubicBezTo>
                  <a:pt x="350" y="2732"/>
                  <a:pt x="468" y="2793"/>
                  <a:pt x="200" y="2659"/>
                </a:cubicBezTo>
                <a:cubicBezTo>
                  <a:pt x="59" y="2589"/>
                  <a:pt x="194" y="2676"/>
                  <a:pt x="107" y="2617"/>
                </a:cubicBezTo>
                <a:cubicBezTo>
                  <a:pt x="0" y="2409"/>
                  <a:pt x="78" y="2154"/>
                  <a:pt x="86" y="1929"/>
                </a:cubicBezTo>
                <a:cubicBezTo>
                  <a:pt x="93" y="1727"/>
                  <a:pt x="114" y="1514"/>
                  <a:pt x="148" y="1313"/>
                </a:cubicBezTo>
                <a:cubicBezTo>
                  <a:pt x="172" y="1170"/>
                  <a:pt x="203" y="1054"/>
                  <a:pt x="190" y="90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9080" y="3127320"/>
            <a:ext cx="3171960" cy="3129120"/>
          </a:xfrm>
          <a:custGeom>
            <a:avLst/>
            <a:gdLst/>
            <a:ahLst/>
            <a:rect l="l" t="t" r="r" b="b"/>
            <a:pathLst>
              <a:path w="1998" h="1971">
                <a:moveTo>
                  <a:pt x="412" y="587"/>
                </a:moveTo>
                <a:cubicBezTo>
                  <a:pt x="436" y="576"/>
                  <a:pt x="401" y="570"/>
                  <a:pt x="423" y="555"/>
                </a:cubicBezTo>
                <a:cubicBezTo>
                  <a:pt x="433" y="548"/>
                  <a:pt x="435" y="533"/>
                  <a:pt x="443" y="524"/>
                </a:cubicBezTo>
                <a:cubicBezTo>
                  <a:pt x="463" y="502"/>
                  <a:pt x="483" y="480"/>
                  <a:pt x="506" y="462"/>
                </a:cubicBezTo>
                <a:cubicBezTo>
                  <a:pt x="520" y="451"/>
                  <a:pt x="536" y="443"/>
                  <a:pt x="548" y="430"/>
                </a:cubicBezTo>
                <a:cubicBezTo>
                  <a:pt x="560" y="418"/>
                  <a:pt x="567" y="400"/>
                  <a:pt x="579" y="388"/>
                </a:cubicBezTo>
                <a:cubicBezTo>
                  <a:pt x="625" y="342"/>
                  <a:pt x="683" y="294"/>
                  <a:pt x="746" y="274"/>
                </a:cubicBezTo>
                <a:cubicBezTo>
                  <a:pt x="806" y="212"/>
                  <a:pt x="895" y="188"/>
                  <a:pt x="965" y="138"/>
                </a:cubicBezTo>
                <a:cubicBezTo>
                  <a:pt x="989" y="121"/>
                  <a:pt x="1005" y="94"/>
                  <a:pt x="1028" y="75"/>
                </a:cubicBezTo>
                <a:cubicBezTo>
                  <a:pt x="1053" y="55"/>
                  <a:pt x="1082" y="53"/>
                  <a:pt x="1111" y="44"/>
                </a:cubicBezTo>
                <a:cubicBezTo>
                  <a:pt x="1132" y="38"/>
                  <a:pt x="1174" y="23"/>
                  <a:pt x="1174" y="23"/>
                </a:cubicBezTo>
                <a:cubicBezTo>
                  <a:pt x="1265" y="27"/>
                  <a:pt x="1366" y="0"/>
                  <a:pt x="1445" y="44"/>
                </a:cubicBezTo>
                <a:cubicBezTo>
                  <a:pt x="1530" y="92"/>
                  <a:pt x="1576" y="163"/>
                  <a:pt x="1675" y="180"/>
                </a:cubicBezTo>
                <a:cubicBezTo>
                  <a:pt x="1718" y="245"/>
                  <a:pt x="1756" y="314"/>
                  <a:pt x="1800" y="378"/>
                </a:cubicBezTo>
                <a:cubicBezTo>
                  <a:pt x="1816" y="444"/>
                  <a:pt x="1819" y="512"/>
                  <a:pt x="1842" y="576"/>
                </a:cubicBezTo>
                <a:cubicBezTo>
                  <a:pt x="1846" y="588"/>
                  <a:pt x="1856" y="597"/>
                  <a:pt x="1862" y="608"/>
                </a:cubicBezTo>
                <a:cubicBezTo>
                  <a:pt x="1867" y="618"/>
                  <a:pt x="1869" y="629"/>
                  <a:pt x="1873" y="639"/>
                </a:cubicBezTo>
                <a:cubicBezTo>
                  <a:pt x="1884" y="727"/>
                  <a:pt x="1913" y="822"/>
                  <a:pt x="1935" y="910"/>
                </a:cubicBezTo>
                <a:cubicBezTo>
                  <a:pt x="1948" y="1025"/>
                  <a:pt x="1956" y="1140"/>
                  <a:pt x="1967" y="1255"/>
                </a:cubicBezTo>
                <a:cubicBezTo>
                  <a:pt x="1966" y="1291"/>
                  <a:pt x="1998" y="1588"/>
                  <a:pt x="1935" y="1714"/>
                </a:cubicBezTo>
                <a:cubicBezTo>
                  <a:pt x="1920" y="1744"/>
                  <a:pt x="1815" y="1845"/>
                  <a:pt x="1800" y="1850"/>
                </a:cubicBezTo>
                <a:cubicBezTo>
                  <a:pt x="1412" y="1971"/>
                  <a:pt x="1134" y="1923"/>
                  <a:pt x="673" y="1923"/>
                </a:cubicBezTo>
                <a:cubicBezTo>
                  <a:pt x="562" y="1919"/>
                  <a:pt x="450" y="1918"/>
                  <a:pt x="339" y="1912"/>
                </a:cubicBezTo>
                <a:cubicBezTo>
                  <a:pt x="291" y="1910"/>
                  <a:pt x="257" y="1904"/>
                  <a:pt x="214" y="1891"/>
                </a:cubicBezTo>
                <a:cubicBezTo>
                  <a:pt x="193" y="1885"/>
                  <a:pt x="151" y="1870"/>
                  <a:pt x="151" y="1870"/>
                </a:cubicBezTo>
                <a:cubicBezTo>
                  <a:pt x="141" y="1860"/>
                  <a:pt x="129" y="1850"/>
                  <a:pt x="120" y="1839"/>
                </a:cubicBezTo>
                <a:cubicBezTo>
                  <a:pt x="101" y="1816"/>
                  <a:pt x="68" y="1766"/>
                  <a:pt x="68" y="1766"/>
                </a:cubicBezTo>
                <a:cubicBezTo>
                  <a:pt x="37" y="1642"/>
                  <a:pt x="0" y="1494"/>
                  <a:pt x="78" y="1380"/>
                </a:cubicBezTo>
                <a:cubicBezTo>
                  <a:pt x="97" y="1269"/>
                  <a:pt x="123" y="1164"/>
                  <a:pt x="151" y="1056"/>
                </a:cubicBezTo>
                <a:cubicBezTo>
                  <a:pt x="174" y="967"/>
                  <a:pt x="145" y="1020"/>
                  <a:pt x="183" y="962"/>
                </a:cubicBezTo>
                <a:cubicBezTo>
                  <a:pt x="215" y="862"/>
                  <a:pt x="302" y="776"/>
                  <a:pt x="360" y="691"/>
                </a:cubicBezTo>
                <a:cubicBezTo>
                  <a:pt x="367" y="670"/>
                  <a:pt x="374" y="650"/>
                  <a:pt x="381" y="629"/>
                </a:cubicBezTo>
                <a:cubicBezTo>
                  <a:pt x="384" y="618"/>
                  <a:pt x="398" y="606"/>
                  <a:pt x="391" y="597"/>
                </a:cubicBezTo>
                <a:cubicBezTo>
                  <a:pt x="383" y="586"/>
                  <a:pt x="426" y="590"/>
                  <a:pt x="412" y="587"/>
                </a:cubicBezTo>
                <a:close/>
              </a:path>
            </a:pathLst>
          </a:custGeom>
          <a:solidFill>
            <a:srgbClr val="5e574e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e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1905120"/>
            <a:ext cx="609480" cy="76176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3429000"/>
            <a:ext cx="60984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3429000"/>
            <a:ext cx="60948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3429000"/>
            <a:ext cx="60948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0600" y="3429000"/>
            <a:ext cx="60948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182240" y="2771640"/>
            <a:ext cx="3048120" cy="45900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608800" y="4284720"/>
            <a:ext cx="529920" cy="8222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14640" y="2755800"/>
            <a:ext cx="1481040" cy="4748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2759040"/>
            <a:ext cx="0" cy="6699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99080" y="2774880"/>
            <a:ext cx="1573200" cy="65412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94200" y="4322880"/>
            <a:ext cx="529920" cy="73800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11880" y="4308480"/>
            <a:ext cx="181080" cy="6890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6080" y="4243320"/>
            <a:ext cx="960480" cy="78732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508040" y="4292640"/>
            <a:ext cx="1309680" cy="73800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4327560"/>
            <a:ext cx="936720" cy="6872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85600" y="4344840"/>
            <a:ext cx="198360" cy="755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846240" y="4346640"/>
            <a:ext cx="446040" cy="65412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up-to-date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train on central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s “compete” to be more up-to-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coordination skill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technically sophisticated central management, schedu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ement To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king and Publish Site Are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to publish updates from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wor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u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ack o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nges if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f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stric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vision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t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-specific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77760" y="2303640"/>
            <a:ext cx="3063960" cy="1904760"/>
          </a:xfrm>
          <a:prstGeom prst="rect">
            <a:avLst/>
          </a:prstGeom>
          <a:solidFill>
            <a:srgbClr val="9966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87880" y="2306520"/>
            <a:ext cx="3063960" cy="1905120"/>
          </a:xfrm>
          <a:prstGeom prst="rect">
            <a:avLst/>
          </a:prstGeom>
          <a:solidFill>
            <a:srgbClr val="9966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41720" y="4641840"/>
            <a:ext cx="3063600" cy="19051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lementati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98520" y="2451240"/>
            <a:ext cx="2289600" cy="1509480"/>
            <a:chOff x="1298520" y="2451240"/>
            <a:chExt cx="2289600" cy="1509480"/>
          </a:xfrm>
        </p:grpSpPr>
        <p:sp>
          <p:nvSpPr>
            <p:cNvPr id="240" name=""/>
            <p:cNvSpPr/>
            <p:nvPr/>
          </p:nvSpPr>
          <p:spPr>
            <a:xfrm>
              <a:off x="2408760" y="2451240"/>
              <a:ext cx="188640" cy="2901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644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0876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5164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824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1836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544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264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596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928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7016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476720" y="2781360"/>
              <a:ext cx="9439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47600" y="3357720"/>
              <a:ext cx="16380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044080" y="2775240"/>
              <a:ext cx="4586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502720" y="2776320"/>
              <a:ext cx="36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66080" y="2782440"/>
              <a:ext cx="4870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68920" y="3372120"/>
              <a:ext cx="16380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65400" y="3366720"/>
              <a:ext cx="5580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32000" y="3341880"/>
              <a:ext cx="2973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577520" y="3360600"/>
              <a:ext cx="40536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03080" y="3373920"/>
              <a:ext cx="2901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42560" y="3380760"/>
              <a:ext cx="61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301480" y="3381480"/>
              <a:ext cx="1378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50" idx="1"/>
              <a:endCxn id="240" idx="1"/>
            </p:cNvCxnSpPr>
            <p:nvPr/>
          </p:nvCxnSpPr>
          <p:spPr>
            <a:xfrm flipH="1" rot="10800000">
              <a:off x="1369080" y="2595600"/>
              <a:ext cx="1039320" cy="581040"/>
            </a:xfrm>
            <a:prstGeom prst="curvedConnector5">
              <a:avLst>
                <a:gd name="adj1" fmla="val -6791"/>
                <a:gd name="adj2" fmla="val 49969"/>
                <a:gd name="adj3" fmla="val -6791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3" idx="3"/>
              <a:endCxn id="240" idx="3"/>
            </p:cNvCxnSpPr>
            <p:nvPr/>
          </p:nvCxnSpPr>
          <p:spPr>
            <a:xfrm flipH="1" flipV="1">
              <a:off x="2596680" y="2595960"/>
              <a:ext cx="543240" cy="581040"/>
            </a:xfrm>
            <a:prstGeom prst="curvedConnector5">
              <a:avLst>
                <a:gd name="adj1" fmla="val -12997"/>
                <a:gd name="adj2" fmla="val 49969"/>
                <a:gd name="adj3" fmla="val -12997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49" idx="3"/>
              <a:endCxn id="240" idx="3"/>
            </p:cNvCxnSpPr>
            <p:nvPr/>
          </p:nvCxnSpPr>
          <p:spPr>
            <a:xfrm flipH="1" flipV="1">
              <a:off x="2596680" y="2595600"/>
              <a:ext cx="921240" cy="1220040"/>
            </a:xfrm>
            <a:prstGeom prst="curvedConnector5">
              <a:avLst>
                <a:gd name="adj1" fmla="val -7662"/>
                <a:gd name="adj2" fmla="val 50000"/>
                <a:gd name="adj3" fmla="val -7662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49" idx="3"/>
              <a:endCxn id="243" idx="3"/>
            </p:cNvCxnSpPr>
            <p:nvPr/>
          </p:nvCxnSpPr>
          <p:spPr>
            <a:xfrm flipH="1" flipV="1">
              <a:off x="3139560" y="3176640"/>
              <a:ext cx="378360" cy="639360"/>
            </a:xfrm>
            <a:prstGeom prst="curvedConnector5">
              <a:avLst>
                <a:gd name="adj1" fmla="val -15809"/>
                <a:gd name="adj2" fmla="val 49971"/>
                <a:gd name="adj3" fmla="val -15809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67" name=""/>
          <p:cNvGrpSpPr/>
          <p:nvPr/>
        </p:nvGrpSpPr>
        <p:grpSpPr>
          <a:xfrm>
            <a:off x="5475240" y="2554200"/>
            <a:ext cx="2289600" cy="1509840"/>
            <a:chOff x="5475240" y="2554200"/>
            <a:chExt cx="2289600" cy="1509840"/>
          </a:xfrm>
        </p:grpSpPr>
        <p:sp>
          <p:nvSpPr>
            <p:cNvPr id="268" name=""/>
            <p:cNvSpPr/>
            <p:nvPr/>
          </p:nvSpPr>
          <p:spPr>
            <a:xfrm>
              <a:off x="6585480" y="2554200"/>
              <a:ext cx="188640" cy="2901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316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8548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2836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6496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9508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0216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936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268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0600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4688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653440" y="2884320"/>
              <a:ext cx="9439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024320" y="3461040"/>
              <a:ext cx="16380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220800" y="2878200"/>
              <a:ext cx="4586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679440" y="2879640"/>
              <a:ext cx="36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42800" y="2885400"/>
              <a:ext cx="4870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5640" y="3475440"/>
              <a:ext cx="16380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3470040"/>
              <a:ext cx="5580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08720" y="3445200"/>
              <a:ext cx="2973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754240" y="3463920"/>
              <a:ext cx="40536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79800" y="3477240"/>
              <a:ext cx="2901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19280" y="3483720"/>
              <a:ext cx="61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478200" y="3484440"/>
              <a:ext cx="1378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78" idx="1"/>
              <a:endCxn id="268" idx="1"/>
            </p:cNvCxnSpPr>
            <p:nvPr/>
          </p:nvCxnSpPr>
          <p:spPr>
            <a:xfrm flipH="1" rot="10800000">
              <a:off x="5545800" y="2698560"/>
              <a:ext cx="1039320" cy="581400"/>
            </a:xfrm>
            <a:prstGeom prst="curvedConnector5">
              <a:avLst>
                <a:gd name="adj1" fmla="val -6791"/>
                <a:gd name="adj2" fmla="val 50000"/>
                <a:gd name="adj3" fmla="val -6791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71" idx="3"/>
              <a:endCxn id="268" idx="3"/>
            </p:cNvCxnSpPr>
            <p:nvPr/>
          </p:nvCxnSpPr>
          <p:spPr>
            <a:xfrm flipH="1" flipV="1">
              <a:off x="6773400" y="2698560"/>
              <a:ext cx="543240" cy="581400"/>
            </a:xfrm>
            <a:prstGeom prst="curvedConnector5">
              <a:avLst>
                <a:gd name="adj1" fmla="val -12997"/>
                <a:gd name="adj2" fmla="val 50000"/>
                <a:gd name="adj3" fmla="val -12997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77" idx="3"/>
              <a:endCxn id="268" idx="3"/>
            </p:cNvCxnSpPr>
            <p:nvPr/>
          </p:nvCxnSpPr>
          <p:spPr>
            <a:xfrm flipH="1" flipV="1">
              <a:off x="6773400" y="2698920"/>
              <a:ext cx="921240" cy="1220400"/>
            </a:xfrm>
            <a:prstGeom prst="curvedConnector5">
              <a:avLst>
                <a:gd name="adj1" fmla="val -7662"/>
                <a:gd name="adj2" fmla="val 49985"/>
                <a:gd name="adj3" fmla="val -7662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77" idx="3"/>
              <a:endCxn id="271" idx="3"/>
            </p:cNvCxnSpPr>
            <p:nvPr/>
          </p:nvCxnSpPr>
          <p:spPr>
            <a:xfrm flipH="1" flipV="1">
              <a:off x="7316280" y="3279600"/>
              <a:ext cx="378360" cy="639360"/>
            </a:xfrm>
            <a:prstGeom prst="curvedConnector5">
              <a:avLst>
                <a:gd name="adj1" fmla="val -15809"/>
                <a:gd name="adj2" fmla="val 49971"/>
                <a:gd name="adj3" fmla="val -15809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95" name=""/>
          <p:cNvGrpSpPr/>
          <p:nvPr/>
        </p:nvGrpSpPr>
        <p:grpSpPr>
          <a:xfrm>
            <a:off x="2611080" y="4840200"/>
            <a:ext cx="2289960" cy="1509840"/>
            <a:chOff x="2611080" y="4840200"/>
            <a:chExt cx="2289960" cy="1509840"/>
          </a:xfrm>
        </p:grpSpPr>
        <p:sp>
          <p:nvSpPr>
            <p:cNvPr id="296" name=""/>
            <p:cNvSpPr/>
            <p:nvPr/>
          </p:nvSpPr>
          <p:spPr>
            <a:xfrm>
              <a:off x="3721320" y="4840200"/>
              <a:ext cx="188640" cy="2901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4900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132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420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0080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128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3800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7556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888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220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272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88920" y="5170320"/>
              <a:ext cx="9442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160520" y="5747040"/>
              <a:ext cx="16416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57000" y="5164200"/>
              <a:ext cx="4586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15280" y="5165640"/>
              <a:ext cx="36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8640" y="5171400"/>
              <a:ext cx="4870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81480" y="5761440"/>
              <a:ext cx="16416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78320" y="5756040"/>
              <a:ext cx="5580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4920" y="5731200"/>
              <a:ext cx="2973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889720" y="5749920"/>
              <a:ext cx="40572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15640" y="5763240"/>
              <a:ext cx="2901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55120" y="5769720"/>
              <a:ext cx="61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614400" y="5770440"/>
              <a:ext cx="1378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06" idx="1"/>
              <a:endCxn id="296" idx="1"/>
            </p:cNvCxnSpPr>
            <p:nvPr/>
          </p:nvCxnSpPr>
          <p:spPr>
            <a:xfrm flipH="1" rot="10800000">
              <a:off x="2681640" y="4984560"/>
              <a:ext cx="1039320" cy="581400"/>
            </a:xfrm>
            <a:prstGeom prst="curvedConnector5">
              <a:avLst>
                <a:gd name="adj1" fmla="val -6791"/>
                <a:gd name="adj2" fmla="val 50000"/>
                <a:gd name="adj3" fmla="val -6791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9" idx="3"/>
              <a:endCxn id="296" idx="3"/>
            </p:cNvCxnSpPr>
            <p:nvPr/>
          </p:nvCxnSpPr>
          <p:spPr>
            <a:xfrm flipH="1" flipV="1">
              <a:off x="3909960" y="4984560"/>
              <a:ext cx="543600" cy="581400"/>
            </a:xfrm>
            <a:prstGeom prst="curvedConnector5">
              <a:avLst>
                <a:gd name="adj1" fmla="val -12988"/>
                <a:gd name="adj2" fmla="val 50000"/>
                <a:gd name="adj3" fmla="val -12988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05" idx="3"/>
              <a:endCxn id="296" idx="3"/>
            </p:cNvCxnSpPr>
            <p:nvPr/>
          </p:nvCxnSpPr>
          <p:spPr>
            <a:xfrm flipH="1" flipV="1">
              <a:off x="3909600" y="4984920"/>
              <a:ext cx="921240" cy="1220400"/>
            </a:xfrm>
            <a:prstGeom prst="curvedConnector5">
              <a:avLst>
                <a:gd name="adj1" fmla="val -7662"/>
                <a:gd name="adj2" fmla="val 49985"/>
                <a:gd name="adj3" fmla="val -7662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05" idx="3"/>
              <a:endCxn id="299" idx="3"/>
            </p:cNvCxnSpPr>
            <p:nvPr/>
          </p:nvCxnSpPr>
          <p:spPr>
            <a:xfrm flipH="1" flipV="1">
              <a:off x="4452480" y="5565600"/>
              <a:ext cx="378360" cy="639360"/>
            </a:xfrm>
            <a:prstGeom prst="curvedConnector5">
              <a:avLst>
                <a:gd name="adj1" fmla="val -15809"/>
                <a:gd name="adj2" fmla="val 49971"/>
                <a:gd name="adj3" fmla="val -15809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323" name=""/>
          <p:cNvSpPr/>
          <p:nvPr/>
        </p:nvSpPr>
        <p:spPr>
          <a:xfrm>
            <a:off x="1580760" y="1781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1080" y="18176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8720" y="52657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89400" y="3197160"/>
            <a:ext cx="579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13480" y="4521240"/>
            <a:ext cx="1139760" cy="1623960"/>
          </a:xfrm>
          <a:custGeom>
            <a:avLst/>
            <a:gdLst/>
            <a:ahLst/>
            <a:rect l="l" t="t" r="r" b="b"/>
            <a:pathLst>
              <a:path w="718" h="1023">
                <a:moveTo>
                  <a:pt x="692" y="0"/>
                </a:moveTo>
                <a:cubicBezTo>
                  <a:pt x="685" y="193"/>
                  <a:pt x="718" y="567"/>
                  <a:pt x="587" y="763"/>
                </a:cubicBezTo>
                <a:cubicBezTo>
                  <a:pt x="551" y="878"/>
                  <a:pt x="602" y="751"/>
                  <a:pt x="543" y="825"/>
                </a:cubicBezTo>
                <a:cubicBezTo>
                  <a:pt x="484" y="899"/>
                  <a:pt x="565" y="868"/>
                  <a:pt x="467" y="900"/>
                </a:cubicBezTo>
                <a:cubicBezTo>
                  <a:pt x="323" y="998"/>
                  <a:pt x="173" y="1023"/>
                  <a:pt x="0" y="102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ols 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Site Publis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soft FrontPage 98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Objects 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Quad HoTMetaL Publis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net suite/manage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ement 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manager for site content, design, policy iss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a committee, where necessa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development staff to install/test software, manag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Contract] graphics design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-based (or other) network between central staff and content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xt-Generation Web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886040"/>
            <a:ext cx="86756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an.graham@utoronto.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ols Overview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ttp://www.utoronto.ca/ian/books/html4ed/extra/extr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on to Application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ry Similar i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here is on largely static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tools are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y not be any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eparate from Web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simpler,  less function-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navigation, clear design is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standing Hyper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Web as Hyper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b is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 of hyper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r because the technology is simp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ex because of the interrelationships possible with hyper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senti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 of disparat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onlin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ation by vie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sign Mod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ee-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ynamic Stru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pproaches w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. They can b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ix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gether on the same s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Hyper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ark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force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ructure 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472428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72428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72428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472428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72428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6665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96216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574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552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733920"/>
            <a:ext cx="609840" cy="7617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3"/>
            <a:endCxn id="98" idx="0"/>
          </p:cNvCxnSpPr>
          <p:nvPr/>
        </p:nvCxnSpPr>
        <p:spPr>
          <a:xfrm>
            <a:off x="1447920" y="4114440"/>
            <a:ext cx="915120" cy="6102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3" name=""/>
          <p:cNvCxnSpPr>
            <a:stCxn id="111" idx="3"/>
            <a:endCxn id="101" idx="0"/>
          </p:cNvCxnSpPr>
          <p:nvPr/>
        </p:nvCxnSpPr>
        <p:spPr>
          <a:xfrm>
            <a:off x="1447560" y="4114440"/>
            <a:ext cx="4801320" cy="6102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689560" y="45561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52578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032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98" idx="2"/>
            <a:endCxn id="111" idx="2"/>
          </p:cNvCxnSpPr>
          <p:nvPr/>
        </p:nvCxnSpPr>
        <p:spPr>
          <a:xfrm flipV="1" rot="16200000">
            <a:off x="1256760" y="4380840"/>
            <a:ext cx="991440" cy="1220040"/>
          </a:xfrm>
          <a:prstGeom prst="curvedConnector5">
            <a:avLst>
              <a:gd name="adj1" fmla="val -23065"/>
              <a:gd name="adj2" fmla="val 50000"/>
              <a:gd name="adj3" fmla="val -23065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18" name=""/>
          <p:cNvCxnSpPr>
            <a:stCxn id="99" idx="2"/>
            <a:endCxn id="111" idx="2"/>
          </p:cNvCxnSpPr>
          <p:nvPr/>
        </p:nvCxnSpPr>
        <p:spPr>
          <a:xfrm flipV="1" rot="16200000">
            <a:off x="1904400" y="3733200"/>
            <a:ext cx="991440" cy="2515320"/>
          </a:xfrm>
          <a:prstGeom prst="curvedConnector5">
            <a:avLst>
              <a:gd name="adj1" fmla="val -69851"/>
              <a:gd name="adj2" fmla="val 50000"/>
              <a:gd name="adj3" fmla="val -69851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78487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8120" y="491796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Hyper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ropriate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ally” linear content (converted book, documentation,  lengthy cont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avigation, easy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avigational flexibility,inappropriate for more complex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hierarchic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tructured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up, page structu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fin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with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as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t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s as a “drill-down” databas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02:45:35Z</dcterms:created>
  <dc:creator>Ian Graham</dc:creator>
  <dc:description/>
  <dc:language>en-US</dc:language>
  <cp:lastModifiedBy>Ian Graham</cp:lastModifiedBy>
  <cp:lastPrinted>1998-04-22T15:47:15Z</cp:lastPrinted>
  <dcterms:modified xsi:type="dcterms:W3CDTF">1998-04-22T17:59:40Z</dcterms:modified>
  <cp:revision>7</cp:revision>
  <dc:subject/>
  <dc:title>Web: Staying Up-To-Date </dc:title>
</cp:coreProperties>
</file>