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4EC-C8D0-4E9B-BA45-34188E2D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9E3-FF3E-448C-BCF0-A0233AD9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09A-002F-46C0-BE08-E33CD6CA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52F-8A71-424C-9031-1EA44F86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6631-FB00-421E-B347-A9056105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F900-99D0-432F-B0D5-671F153D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7208-05E3-4F6C-B756-43931B64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1EC9-B18F-41BA-9AF6-FD536636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55C0-2B90-428F-ABF6-FAF52C39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A5F4-2297-4C08-93F6-D609F0C3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457B-937B-4B40-B3FD-23727D8F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50E-829F-4581-B0E5-80D9FF4A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0E75-06ED-473C-88F7-5FE144FF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C402-01F5-479C-B7E8-CA19860B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0D62-1071-4073-8FAF-31675702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8837-E492-4F46-8F62-A53CB49F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58C4-ADB0-4A8C-8122-DAA77569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607-90A5-4BC0-B07E-8C8F1C92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839-8496-42A2-87DE-CF6D8227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DA4-EFA5-4B6D-BD47-272D954C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D35-D905-420C-B1EA-0F844E21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489-2613-45C2-B6CD-E26C7FAC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93F-94EC-4C85-B015-0602BAE5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65D-216E-4391-A1BA-172902E1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B2A5-BCFB-4E0E-8250-258F284DB1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889D-FC4C-41D3-89FB-BAA6B1FBE1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Application Desig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17884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an Grah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o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utoronto.ca/ian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rovewa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groveware.com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interfaces as simpl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function of page, or functions available on a page, are obvi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ame design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inciples (cont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nima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how functions that are relev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vi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clear, well defined navigation within and betwee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mistakes, or how to do th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-Centric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ign for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ir needs,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ir knowledge, 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nfrequent us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simpler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Frequent us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more complex designs,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transform requirements into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3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Design of software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3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Web interface prototyping an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Design core components of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Usabilit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Implement al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More user testing, tuning -- prepare document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ocess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ocess (3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Release! Is it finished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9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Ongoing support and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1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Ongoing maintenance and error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eb-based list of campus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ign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uitive use by infrequent, non-expert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kmarkable “views” of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-based posting and event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and access control for management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mpus Main Ev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ewing Ev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lendar and lis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able” formats for some vi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navigate between different vi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select boxes to define criteria for events being view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(example2, example3, example4, example5, example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lendar Views Interfa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imple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buttons to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” functions on t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 clearly display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uitive navigation embedded in the views (change week, go to specific event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Black"/>
              </a:rPr>
              <a:t>User-centr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Arial Black"/>
              </a:rPr>
              <a:t>Asp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sability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tested with real use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eatures based on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-format vi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ookmark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ference for future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Web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o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ste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ministrative Fun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quir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ser Authent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ious pages show ways to log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ve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itional functions, areas of the system, depending on user’s permiss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e laid out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se new areas of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uctural Layo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ge-related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as” denoted by tab b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” functions at top of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a-specific” functions in left-hand button 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e-specific” functions embedded in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agement Fun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st Tasks and Task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“management”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“functions” in  this management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functions in page content (reuse icon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ig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ng “management” area changes the list of “functions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(example9, example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ction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tural starting, stopping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loo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r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t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ui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user on each ste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help where appropr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for, handle and comment o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rr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occur in user inp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convenient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not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(example11, example12, example13, example14, example1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op returns to starting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flec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nges that have been d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onfir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changes took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s with errors are reproduced with descriptions of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is a link to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anc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ction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92400" y="3147840"/>
            <a:ext cx="1042920" cy="628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16440" y="3151080"/>
            <a:ext cx="1042920" cy="628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0240" y="3116160"/>
            <a:ext cx="1042920" cy="628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33680" y="3429000"/>
            <a:ext cx="9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69040" y="3429000"/>
            <a:ext cx="1093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3" idx="3"/>
            <a:endCxn id="133" idx="1"/>
          </p:cNvCxnSpPr>
          <p:nvPr/>
        </p:nvCxnSpPr>
        <p:spPr>
          <a:xfrm flipH="1">
            <a:off x="3915720" y="3465000"/>
            <a:ext cx="1043640" cy="2520"/>
          </a:xfrm>
          <a:prstGeom prst="curvedConnector5">
            <a:avLst>
              <a:gd name="adj1" fmla="val -45790"/>
              <a:gd name="adj2" fmla="val -36400000"/>
              <a:gd name="adj3" fmla="val -45790"/>
            </a:avLst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4033800" y="18972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15160" y="386856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50640" y="38336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17600" y="3840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4" idx="3"/>
            <a:endCxn id="133" idx="1"/>
          </p:cNvCxnSpPr>
          <p:nvPr/>
        </p:nvCxnSpPr>
        <p:spPr>
          <a:xfrm flipH="1">
            <a:off x="3916080" y="3430080"/>
            <a:ext cx="3907440" cy="35640"/>
          </a:xfrm>
          <a:prstGeom prst="curvedConnector5">
            <a:avLst>
              <a:gd name="adj1" fmla="val -16087"/>
              <a:gd name="adj2" fmla="val -3870408"/>
              <a:gd name="adj3" fmla="val -16087"/>
            </a:avLst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5357880" y="2905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8080" y="593892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cept, or can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3" idx="3"/>
            <a:endCxn id="132" idx="1"/>
          </p:cNvCxnSpPr>
          <p:nvPr/>
        </p:nvCxnSpPr>
        <p:spPr>
          <a:xfrm flipH="1" flipV="1">
            <a:off x="1292040" y="3462120"/>
            <a:ext cx="3667680" cy="3600"/>
          </a:xfrm>
          <a:prstGeom prst="curvedConnector5">
            <a:avLst>
              <a:gd name="adj1" fmla="val -35967"/>
              <a:gd name="adj2" fmla="val -34700000"/>
              <a:gd name="adj3" fmla="val -35967"/>
            </a:avLst>
          </a:prstGeom>
          <a:ln cap="rnd" w="3240">
            <a:solidFill>
              <a:srgbClr val="5e574e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46" name=""/>
          <p:cNvCxnSpPr>
            <a:stCxn id="134" idx="3"/>
            <a:endCxn id="132" idx="1"/>
          </p:cNvCxnSpPr>
          <p:nvPr/>
        </p:nvCxnSpPr>
        <p:spPr>
          <a:xfrm flipH="1">
            <a:off x="1291680" y="3430080"/>
            <a:ext cx="6531480" cy="32760"/>
          </a:xfrm>
          <a:prstGeom prst="curvedConnector5">
            <a:avLst>
              <a:gd name="adj1" fmla="val -6515"/>
              <a:gd name="adj2" fmla="val 3744444"/>
              <a:gd name="adj3" fmla="val -6515"/>
            </a:avLst>
          </a:prstGeom>
          <a:ln w="28440">
            <a:solidFill>
              <a:srgbClr val="000000"/>
            </a:solidFill>
            <a:prstDash val="dash"/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s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to define pag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tries to b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cce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 buttons have ALT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s are structured to be tab-navig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4 has special attributes to control tab access sequences and key bind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ge Design and Layo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 FRA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accessibility to visually impair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navi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s up functional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are, however, useful in applications, as they let you place different functional components in different fra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ge Design --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cal Programm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mited use of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Java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validation of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p windows; multiple displa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 limited by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user ba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onsistent deployed script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er browsers presen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designs/complex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task to perform before star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onstrained by technical limi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d by user co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constrained by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quirements (defined by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 Web Application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s as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nterfac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back-end data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s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genera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back-end data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is on the first of the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rich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programmatic content beneath (and controlled by) the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Application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886040"/>
            <a:ext cx="86756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an Gra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utoronto.ca/ian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groveware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an.graham@utoronto.c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Application Option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mple applica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 (e.g. search too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ll-fledged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-featured (word processor, document management, etc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ddle-level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-based interaction an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ple Ap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a catalog,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 note, or message -- WebForu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rst-Generation Web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use, easy to implement </a:t>
            </a: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(example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inimal set of Web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, specific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ll-Fledged Ap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lex Client-Server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flow, document management, collaboration; complex applic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blems/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customize/ada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unkiness of Web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build easy-to-use interfaces (Java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ddle-Tier Ap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sk-specific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interfaces, with multiple pages, perhaps some scrip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-based administration,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only perform a limited set of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861840" y="4986360"/>
            <a:ext cx="7452000" cy="459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We will be looking at applications of this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ocess Question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r Pro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are the use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r, or infrequent users? Sophistica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sk Analysis for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require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into Web-style flowch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urity and Access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 requirements, pri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lation to Web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ry similar sets of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here is on largely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ent, with Web-base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tools are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ably Web-based, and integrated within the Web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more complex, function-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ce of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avig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clear design is the same in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7T02:45:35Z</dcterms:created>
  <dc:creator>Ian Graham</dc:creator>
  <dc:description/>
  <dc:language>en-US</dc:language>
  <cp:lastModifiedBy>Ian Graham</cp:lastModifiedBy>
  <cp:lastPrinted>1998-04-22T15:47:15Z</cp:lastPrinted>
  <dcterms:modified xsi:type="dcterms:W3CDTF">1998-04-23T00:24:49Z</dcterms:modified>
  <cp:revision>12</cp:revision>
  <dc:subject/>
  <dc:title>Web: Staying Up-To-Date </dc:title>
</cp:coreProperties>
</file>